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5D4C-8BE9-45CE-8FF8-E4C31DB19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FFC5-6387-4233-9A19-05AB353E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B9F111-CF06-45A9-AE1C-083DEE56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797AB2-6F86-4760-91FF-077F00C9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41B011-5568-4297-83EC-782ADE43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2B944D-E30A-4F77-8E43-2254C1A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4F152-D02F-4CAE-80CF-B316FB1C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4BEB64-1776-491E-A7AF-E2B8A723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D00004-66AA-494C-8060-D02D6DE8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282FB3-E50D-4E42-8968-E785C39E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98ECBE-DF7F-4260-86C2-B4FC29C95C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40D6E-461C-4CDA-9660-B68FDC446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2662-CD97-4F21-B7BE-A47F1F7A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140D6-5D83-44EA-B0F7-B543C3A4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A0826-4D97-4C19-BC9D-4C1F41D5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9C2EE-7EE1-4A42-8A9D-DA5AFFFC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08A35-CA2D-47B1-923B-ABF5E8A4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20716-5410-4700-945F-54424EE2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0A35-71D9-48BF-B9D3-F7763AAA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7C1D4-2809-4F0B-B616-D60CA5E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DE6AE-23C7-4AF3-A90F-1424B409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29A99-553C-42A2-A169-9F300916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62125-35C9-45D1-9B97-A8EFE433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D24B-77CF-4BEC-9BC3-E9E1351D42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2FC9A-A9F3-455F-854F-6C8E76E565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B5AFE-939A-4138-A90C-57FA34935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B6E0F-8FFF-4E55-ACC2-B51DBE49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FAB63-244F-4380-A2AC-BA8F94F9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9C038-7AC6-4D74-9622-DFCE70D7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275C0A-02E1-4A77-AB74-F4709F8C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3E6E7E-2B56-475C-BAA9-A0F46BFE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4E8BC-7FB5-4440-82E9-C2E1299A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18826E-292E-460D-B138-FBD6FBD7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F82138-E69F-4CB0-8D07-A1D01EB8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15895-048A-4027-9419-9D93458D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073F4D-BF7B-41E6-8732-9E33AD00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02BEAE-AE4B-41A3-8D13-051B6EE0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577437-34C0-4348-9055-8C5DFB18FB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6A5C8-C11B-48D3-8E39-017D2ACEC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C4B66-7517-44C3-BB59-28B210A1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C5BC5-41F2-4D8D-A50D-1F362E68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2BF0B-6BE3-4C1A-B167-9F2239FB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B35CA-8B90-487F-8B0C-13E762BD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D4382-B67E-44DA-BC72-86D05691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04D69-309B-43BF-B831-1F94D7A0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C6406-ED6B-4EA9-A1E1-24A4FFF8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5C93C-A1AB-46C3-8813-7C1E081D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D10AD-F0CB-41D6-89B6-B41B6E1E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1DE4A-43BA-4DD9-8036-9A8D7E0B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88EEC-4854-4790-9C1A-A149BA01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BACFA-0B61-44AC-9010-B661551D0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4E8E3-BE57-4BB3-A68F-9474D561B7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EE659-EB01-4BE8-AD14-FAEC7BDB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17060-C228-490D-9767-E7041F39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90E8D-F292-44FC-B25D-54B82E19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6D5AB-A79B-4C34-8EE4-74B70FF6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496B0-4361-4362-87C4-E56C6F09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88C5B-78B8-480A-9EDC-810364A2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2526D-E179-4445-AE30-8C49A8D4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3490D-9F31-4DFC-85C1-6B2BC3EB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E5D2F-5A28-4110-B5A2-45BD3F8F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E12F8-2E60-4D60-806E-14EBE174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3BA0D-EFFA-41E2-84E7-73767D08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576F1-371D-418D-A29F-337B938CD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69753-63A2-432B-9B91-8B0652F3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5F23B-0ED5-4AB7-ABE0-C4FF4923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AB75D-F4E5-44B4-91CF-D6610A67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E1459-C73A-4BB8-9148-8F1D75D7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622B9-DDE8-436A-A83A-4AF13EA3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BAD77-6C8C-4782-A4D8-C9067A01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EC392-3D9D-4434-8D36-CF18615D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D806E-65ED-4391-AC4E-BCA0017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CF773-F204-4635-B774-104999B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93580-AA62-4E7C-A476-93E3B64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147B5-502E-4AAF-8923-F787221C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D976F-0D10-4E8D-966E-98FE72F2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AA66E-DF6C-410B-A069-9B57558C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5E474-4929-4C2E-B39C-40AF0CE6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3FFD6-C7DE-4B84-A4A8-FAEDE7EB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0B882-A4D4-4947-A3EC-8491B02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61279-D58F-43BF-95CC-AEAB940D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78AAB-AA54-4D3F-947F-374CB736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3AEA5-D827-4CFD-A038-079F7763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45E29-A32D-4CD0-92CE-19BF6CAF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C9CC2-EF35-42CD-9DE0-AF3DE648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150DC-F41C-496F-B609-0734C4D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4FFA5-CEFE-443F-819D-260583FE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D757F-DECF-4065-886B-274B3BC1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1AF41-9D4D-42D7-8F06-A49E664D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4154F-9C5E-4F1F-8BAA-840696C6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2B919-7C6E-418D-8A4D-66C7EB2C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B38DF-0FE3-4221-B5A4-8F17EF84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49662-66C4-4211-B91A-31E5798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4906B-83C8-438B-AF7A-5E2276E0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A8496-8488-4E13-8D39-6985E25B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A3724-D941-48A3-BB05-B4ED45D4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EB433-BC5A-4E8F-B607-5F8EACB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A2248-6758-463F-BF94-7A94D6D5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957D6-DD29-4A0D-A8C2-83E6CD7A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F5B69-8751-47FD-A028-F9A9F09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CEE15-7C48-4DE2-8124-7F72337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9043A-F985-4E90-ACEA-09C12350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F5E6F-EB2A-468D-BAE9-BA13B858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EF533-F6CA-4DDF-8D62-A0A8EBA1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E080C-0E80-486C-9A96-B5A20614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16EB7-FC52-4B7A-B78A-444C566A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E7596-59E0-4851-AF45-7935D961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E5987-BBAE-4362-A7BC-C8F7B976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9E7EF-EB4D-40E8-BA27-A0853CE6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4FE83-5415-48B3-A6E7-650FE211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85FFC-CECB-47AB-B4AB-A9461A5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6202-9B3A-4E7C-A853-9F8CAE1D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DD3E6-AFA5-4908-9BA2-D4B70E4D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C82EB-2D08-4447-823B-CF5BA653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B6988-769D-44AD-839B-658DC26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7E7CB-7F57-4156-8E6F-F3799A06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3BF91-C45E-45F7-B4D7-F7C0E2C6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78195-20DF-440C-8BF5-92DE8953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D8F48-1D41-4AF9-A701-5B434CD9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C49B2-54A5-4CD5-887D-068E1C1F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0DE99-1FCF-42E0-8D12-E1CD3241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5EE88-4AE7-4D70-9D0F-74A96D28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DC21C-642F-4043-A46B-96E2BC53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88AD1-52B0-46B1-BC8F-5AB6BFA8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7BC74-CD9D-449F-9096-E0F4062D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49D8C-CFEB-4CE9-909D-C58C12F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79970-7499-4903-BE61-25B1191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818E5-3A10-42FC-97C6-3FBBD305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0092C-C859-41D4-BAB9-4B1824D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C0823-752E-486D-B645-8725ED55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16E69-385F-4BB5-AC9A-C08FAD0A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B855B-CFED-4C82-8D13-B48E3B2E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9FFED-964E-43CF-BA28-A0993F74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DFF5A-2CA9-4B9A-947D-DCBE7AE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07E6-EBE8-454F-9A8C-B4943761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FF773-4D29-4855-9013-391F2239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7B612-4BAB-4597-8967-27124A4F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2F173-2D0C-4BA4-A349-125D2625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21C46-3E01-438A-824A-F8441ADD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F7A8F-6971-4DC8-86AF-35A6C62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0AB8A-1D9F-4AF3-AD2F-721B27C7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7D6EC-D146-49C7-9E10-3782911F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DA89E-03AF-47CB-BED4-7B23DC7F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60B22-B9FA-4C1B-8533-FCAC49D6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CEFF9-C21F-4148-964D-0A37895C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3DDF4-A31D-4728-B9F1-71304E49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0F723-6719-4679-9364-8BE332EF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F2B1C-5BF2-493F-95E7-22F8589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E77A6-B6C1-4CBF-94D9-ABF7A23A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58A33-40A1-42CF-80B6-271ECE63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F1063-03E8-46F1-8042-DB6A9BB7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91DC9-0EB2-4024-A4D5-5062D0A2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FEF25-1289-44FD-B63C-BA9EFE2E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89B8B-B2B3-422E-AE55-EFF9F94E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B3347-48AE-4B9F-A0A3-63B25A00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F9F25-BCA6-482A-BD40-DE65A098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6929-B459-4DD1-ACF8-4DC2A21E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BF014-EEC9-4203-8E67-429F9E8F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9BB29-F0F8-4A22-B946-A109B7CF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99ED0B-F489-4C44-96A3-D19830C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46FE8-1692-46B4-B93D-2C77D570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2AC9C-A961-4B68-8EDE-095FFFE8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A0B72C-F568-4909-B89A-F90DE9B8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359B1-9593-4DB1-A8BD-D44DC689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B3C28-BD13-4256-8E89-E4CCAD0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94A3E-DAB4-40D4-B77E-171378AD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BA03E-9DFC-42FE-BFDD-C8229A72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0F63A-D0AC-44B5-87C3-298BDC867E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8DA1A-FF5D-4E26-82E5-7796E5D8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0203D-1E33-4285-9D9F-2E1D5337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AF030-CFF8-424A-821F-0B059C87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D3967-B7B8-44AC-8B01-8C9B082D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C0924-82E4-4406-A98E-8DDB1F25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D15D0-7E3F-4F61-AC4B-86CC33D0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9ABD4-07DD-4F06-82F2-D8417C1E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2C255-D0F8-4865-8F25-EE45A3E8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58E76-3A0A-45C8-A06D-49969B8D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EB5CC1-1620-4B17-A84C-3DB834F2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D9D92E-6745-405C-9F0C-ED9037B3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EC9B1-EE9E-46F3-BE19-1400BF47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862B5-5E47-4C74-930E-F84D8C8D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1381C1-AFEC-4CC5-8015-AE3B52E4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6B9FA-3163-4568-B6CC-40F78F36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387DE-3322-4796-87FD-F8821988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075D7-9202-4F16-B899-A55032BA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5BD2B-FA13-4511-A2B9-356991F2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5793D-DAA7-4B46-A15B-D7CEDD7B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63534-EDFE-404C-8FE4-AB7A6506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2576B-AE3F-482E-A8EF-0506F147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B18CC-AEA3-4FDF-B2DB-BF640F06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6CECB1-8AAC-47EA-B004-B9725AA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1E709A-C82B-4F27-89C2-757B0BC7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690F5-0E9A-48FF-AD9E-C102B2FF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800E1-8EFD-4250-8207-924A82BC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440E5E-A8F7-4736-A7D6-8C281941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6B478-01B4-4613-84B5-C7490B00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B4A80-0D91-4E12-88C8-7B86068D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4F6FF-A29C-40E0-9F3A-C32477CA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48C8FA-8FA7-4702-ABF9-C9E327BC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B054A-612D-4174-8706-05DD0CB7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1F258-D0B9-4180-8525-5574AC22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7E2AF-F88F-442C-9145-C0576301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DD6044-DFFF-4674-8AB0-45A790ED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82B5E-F9AE-4FC2-B3FB-17FD8072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F66D3-E026-4961-B53C-C69B749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4BE56-49A6-48CA-BBA7-5B29E92A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5E2E2E-F438-410F-A669-489CEF6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85286-B823-4AC4-A347-264DD906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E929E-D482-4E3B-8336-17AF186C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93FBA-C3B4-4F00-BC46-A0E390CF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5399C-61A9-4F41-8A39-5FBA460B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3E2C-A385-4EE5-8B12-6492BF20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EC4B6-4634-493A-BC94-2A6010B1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C38B49-08D9-4ECF-800A-EAA2DB2F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54F1A-26A1-41F0-9A2E-F99AEB09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AFB8E-5209-44DA-AA6A-01F09150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612A6-6D8A-45B8-9258-38E6B608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1808B-A385-45C8-A83E-520EA273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DA87FB-CEBA-475A-902F-BCE68252EA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581F-BF6B-40E2-925A-46BE2432C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435A-751A-4840-8339-5B119767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5D94-B456-4B4B-B489-7FBA66EB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6F0C-F96A-46FE-83AB-7A886902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BA8D-F119-479B-A953-B107CE72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60BD-F736-402C-8435-C02229A0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CDEC-1926-4153-807A-F1167006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043B-969F-4844-BDE3-3068EB22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4888-D72A-49E5-BCCE-765230BE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3F1E-25F3-45D4-B816-E76D1FD0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669D-0654-473A-932E-0F7D6BD2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46D7C-86AD-4553-8E7A-C855F5E3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B4F6-0AC6-48BA-A2DD-5ED0E1B900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0162B-0A6F-427E-83AF-8DA4B0578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C33E-278A-4C94-B1A2-A4D6364A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F16BE-AD32-4AA9-822F-EF3ABC6D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CB5A3-CB56-43E7-B59F-B29E8783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2A1F7-3A75-4D08-82DB-5762A604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42AE3-5C8C-487A-A116-B5E576F1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B1190-84E2-4336-9C6A-8110C2E3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15CBD-41FB-4797-95F0-206D717F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78D7E-0F19-433E-9EC2-EDE83377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8E89D2-519E-433A-99C5-0681C416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EF233C-824F-42DD-87F4-BF06B098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965D0-6673-4390-A81D-BAC4F9E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B4E1-19EE-4E5E-9350-1EACBE98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F9AFF-3D70-4339-AF53-DA4B2FA982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9C2A17-BADD-4204-9F15-EFD1DB68E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BDA092-46C0-4FB1-A6C0-EF633FA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77BFD6-7C0C-42A6-8950-087B792A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C4CCE1-65D8-4ACF-9761-C0C51A0B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1B60F-DF76-4AEA-BC49-BD9D3BBC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8084A-165B-4C4B-A2BD-1DCD9512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7E29D9-34BC-4934-AD74-DB3D7818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841774-C6E5-4CC7-9251-9994FA66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06DBE9-4CB4-4030-AABD-A5AE8ACB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6850-C7E0-44C0-A585-DAFF956D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1D9CAC-1F00-4BD8-A411-F57F8714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426F3-BAFC-446A-A959-10DF9E95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CF40A5-46D8-427B-B75F-0C0546C57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2AD2E-5F28-472D-AD6D-87A6CEC18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A184E-4C9B-4F3F-B8FF-EB6B2A9F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370BF-BD5B-4549-85E2-BC25437E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05311-2570-45A6-A3B1-DD644F9F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C133D-E4B6-4EB2-8570-472A0804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C5CA-C9BB-46A8-8D2C-FD579953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C3A96-E0C9-457D-BA14-4818CF4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6C50-7D4F-4A0D-BC36-8A8A9D1A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BA4C2-B0C6-478C-92E4-39C938E7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C2E7-53A8-4568-B15E-26C254BF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5ED72-8F37-45D1-8DCB-A225345B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E3178-0646-43DF-AD19-28204215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30933-7AF3-4424-92E6-3BC087BBFC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C8C71-FF3B-4FBD-B826-163BDCA2C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9C1AE-B71A-45D0-A8A2-5B7EDDB0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24052-E9C9-44F6-8CA9-E8A303AE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B2F06-30EB-4527-B4F2-514D4210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9A17C-04FE-4273-9ACD-2088474C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6841-3974-47F3-89D8-A7C30523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9BD0C-FFB2-42E3-ADCB-FEE1A741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5B06E-E949-4011-8832-73658F33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AD1A4-22E2-475B-8BEE-E4796111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7CF72-D329-46BF-A7A6-F33B2263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8B713-734C-4DAF-B6C1-1436F3A8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1C8FB-3290-491F-ACFA-8F820E2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26B62-842D-446B-8154-28BE35D114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99C1BE-5426-4FB2-ABF2-8C4EBF67E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DF5A1-3657-4F73-BA30-CC2753EE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F12A4A-C505-4618-8640-AD203BE9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EF80-8007-4435-B314-4A8726B266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73CA-9602-4663-99F5-E1750F1B19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97AC-9452-4F71-8856-C0DB87F934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9459-E64C-4CC0-B8A0-2C74B8E0609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FE1F-7BAF-49B1-AEF6-862105E955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A244-FDC2-41D5-91CA-3CA5640C96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4C49-21E7-42BB-B4BE-8DE2805C7A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1F30-4183-420A-9C2F-9CE072DAB2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5C3-C6DD-4844-A189-85D4A4EA5D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113F-E60A-4E53-AB8C-4E840FE8DCB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91CE-10B2-491F-A545-58EC3515B0A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35FD-6CAA-4A48-AAF2-27A2ED71E0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4983-FBAC-443D-96B1-D8BE76850F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0B09-3167-4E2C-B5AB-A70C2AE1F3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AF8E-872B-4FD1-94D5-4B3892EFB9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7311-CD11-4444-8B05-A3B311D71F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42DA-A1C4-49A4-A3F8-6B7982E3BD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E41B-87FD-4AD4-A8D7-584431733E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7C7E-CA62-4AD7-BF42-0B2FC43721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5D0A-05A0-4BC7-9FC5-1917DA69A5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5D1-CD1A-477B-8FE2-6F56E8366C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E809-355D-4DF5-BCAC-46C0FE76B36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391A-3439-402E-A2F8-E0E8317B08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4307-6F27-40FC-8AF1-8C6B93EA942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gif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271600" y="2689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条 形 统 计 图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3863880" cy="360"/>
            <a:chOff x="2284560" y="2448000"/>
            <a:chExt cx="38638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3863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386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100160" y="1744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形统计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455760" y="111240"/>
            <a:ext cx="2071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互动新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396720" y="911160"/>
            <a:ext cx="9107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是几个同学在一个路口统计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后，得到的几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动车通过的辆数统计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973080" y="2017800"/>
          <a:ext cx="6840360" cy="982440"/>
        </p:xfrm>
        <a:graphic>
          <a:graphicData uri="http://schemas.openxmlformats.org/drawingml/2006/table">
            <a:tbl>
              <a:tblPr/>
              <a:tblGrid>
                <a:gridCol w="1222200"/>
                <a:gridCol w="1441800"/>
                <a:gridCol w="1512720"/>
                <a:gridCol w="1368360"/>
                <a:gridCol w="1295280"/>
              </a:tblGrid>
              <a:tr h="59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机动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轿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面包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客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货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辆  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12" name="Group 24"/>
          <p:cNvGrpSpPr/>
          <p:nvPr/>
        </p:nvGrpSpPr>
        <p:grpSpPr>
          <a:xfrm>
            <a:off x="584280" y="3635280"/>
            <a:ext cx="3894120" cy="1354320"/>
            <a:chOff x="584280" y="3635280"/>
            <a:chExt cx="3894120" cy="1354320"/>
          </a:xfrm>
        </p:grpSpPr>
        <p:pic>
          <p:nvPicPr>
            <p:cNvPr id="1013" name="Picture 25" descr="E:\2017秋上·黄倩\其他\人\海豚.jpg海豚"/>
            <p:cNvPicPr/>
            <p:nvPr/>
          </p:nvPicPr>
          <p:blipFill>
            <a:blip r:embed="rId8"/>
            <a:stretch/>
          </p:blipFill>
          <p:spPr>
            <a:xfrm>
              <a:off x="584280" y="3861720"/>
              <a:ext cx="8568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AutoShape 27"/>
            <p:cNvSpPr/>
            <p:nvPr/>
          </p:nvSpPr>
          <p:spPr>
            <a:xfrm>
              <a:off x="1751400" y="3635280"/>
              <a:ext cx="2727000" cy="1354320"/>
            </a:xfrm>
            <a:prstGeom prst="wedgeRoundRectCallout">
              <a:avLst>
                <a:gd name="adj1" fmla="val -58319"/>
                <a:gd name="adj2" fmla="val 34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能把上面的结果用“以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代表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条形图表示出来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7"/>
          <p:cNvGrpSpPr/>
          <p:nvPr/>
        </p:nvGrpSpPr>
        <p:grpSpPr>
          <a:xfrm>
            <a:off x="5076720" y="3616200"/>
            <a:ext cx="3697200" cy="1689120"/>
            <a:chOff x="5076720" y="3616200"/>
            <a:chExt cx="3697200" cy="1689120"/>
          </a:xfrm>
        </p:grpSpPr>
        <p:pic>
          <p:nvPicPr>
            <p:cNvPr id="1016" name="Picture 28" descr="E:\2017秋上·黄倩\其他\人\蜜蜂.gif蜜蜂"/>
            <p:cNvPicPr/>
            <p:nvPr/>
          </p:nvPicPr>
          <p:blipFill>
            <a:blip r:embed="rId9"/>
            <a:stretch/>
          </p:blipFill>
          <p:spPr>
            <a:xfrm>
              <a:off x="7885800" y="4006440"/>
              <a:ext cx="888120" cy="97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AutoShape 27"/>
            <p:cNvSpPr/>
            <p:nvPr/>
          </p:nvSpPr>
          <p:spPr>
            <a:xfrm>
              <a:off x="5076720" y="3616200"/>
              <a:ext cx="2447640" cy="1689120"/>
            </a:xfrm>
            <a:prstGeom prst="wedgeRoundRectCallout">
              <a:avLst>
                <a:gd name="adj1" fmla="val 62425"/>
                <a:gd name="adj2" fmla="val -18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如果用每个格表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辆车， 要画很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格，太麻烦了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么办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30"/>
          <p:cNvGrpSpPr/>
          <p:nvPr/>
        </p:nvGrpSpPr>
        <p:grpSpPr>
          <a:xfrm>
            <a:off x="2341440" y="2133720"/>
            <a:ext cx="4967280" cy="403200"/>
            <a:chOff x="2341440" y="2133720"/>
            <a:chExt cx="4967280" cy="403200"/>
          </a:xfrm>
        </p:grpSpPr>
        <p:pic>
          <p:nvPicPr>
            <p:cNvPr id="1019" name="Picture 31" descr="100d"/>
            <p:cNvPicPr/>
            <p:nvPr/>
          </p:nvPicPr>
          <p:blipFill>
            <a:blip r:embed="rId10"/>
            <a:stretch/>
          </p:blipFill>
          <p:spPr>
            <a:xfrm>
              <a:off x="6588720" y="2133720"/>
              <a:ext cx="720000" cy="3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32" descr="100a"/>
            <p:cNvPicPr/>
            <p:nvPr/>
          </p:nvPicPr>
          <p:blipFill>
            <a:blip r:embed="rId11"/>
            <a:stretch/>
          </p:blipFill>
          <p:spPr>
            <a:xfrm>
              <a:off x="2341440" y="2206080"/>
              <a:ext cx="767520" cy="2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33" descr="100b"/>
            <p:cNvPicPr/>
            <p:nvPr/>
          </p:nvPicPr>
          <p:blipFill>
            <a:blip r:embed="rId12"/>
            <a:stretch/>
          </p:blipFill>
          <p:spPr>
            <a:xfrm>
              <a:off x="3780720" y="2143800"/>
              <a:ext cx="6278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34" descr="100c"/>
            <p:cNvPicPr/>
            <p:nvPr/>
          </p:nvPicPr>
          <p:blipFill>
            <a:blip r:embed="rId13"/>
            <a:stretch/>
          </p:blipFill>
          <p:spPr>
            <a:xfrm>
              <a:off x="5220360" y="2133720"/>
              <a:ext cx="76536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八边形 7"/>
          <p:cNvSpPr/>
          <p:nvPr/>
        </p:nvSpPr>
        <p:spPr>
          <a:xfrm>
            <a:off x="385920" y="85104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66"/>
          <p:cNvGrpSpPr/>
          <p:nvPr/>
        </p:nvGrpSpPr>
        <p:grpSpPr>
          <a:xfrm>
            <a:off x="573120" y="652320"/>
            <a:ext cx="4427640" cy="3388320"/>
            <a:chOff x="573120" y="652320"/>
            <a:chExt cx="4427640" cy="3388320"/>
          </a:xfrm>
        </p:grpSpPr>
        <p:pic>
          <p:nvPicPr>
            <p:cNvPr id="1025" name="Picture 63" descr="109"/>
            <p:cNvPicPr/>
            <p:nvPr/>
          </p:nvPicPr>
          <p:blipFill>
            <a:blip r:embed="rId1"/>
            <a:stretch/>
          </p:blipFill>
          <p:spPr>
            <a:xfrm>
              <a:off x="696960" y="906480"/>
              <a:ext cx="364968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Text Box 64"/>
            <p:cNvSpPr/>
            <p:nvPr/>
          </p:nvSpPr>
          <p:spPr>
            <a:xfrm>
              <a:off x="1184400" y="3733560"/>
              <a:ext cx="38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轿车 　  面包车  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　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客车   　</a:t>
              </a:r>
              <a:r>
                <a:rPr b="0" lang="zh-CN" sz="1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货车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65"/>
            <p:cNvSpPr/>
            <p:nvPr/>
          </p:nvSpPr>
          <p:spPr>
            <a:xfrm>
              <a:off x="573120" y="65232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辆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Group 6"/>
          <p:cNvGrpSpPr/>
          <p:nvPr/>
        </p:nvGrpSpPr>
        <p:grpSpPr>
          <a:xfrm>
            <a:off x="1260360" y="1413000"/>
            <a:ext cx="2487600" cy="2349360"/>
            <a:chOff x="1260360" y="1413000"/>
            <a:chExt cx="2487600" cy="2349360"/>
          </a:xfrm>
        </p:grpSpPr>
        <p:sp>
          <p:nvSpPr>
            <p:cNvPr id="1029" name="Rectangle 452"/>
            <p:cNvSpPr/>
            <p:nvPr/>
          </p:nvSpPr>
          <p:spPr>
            <a:xfrm>
              <a:off x="1260360" y="1413000"/>
              <a:ext cx="360360" cy="2349360"/>
            </a:xfrm>
            <a:prstGeom prst="rect">
              <a:avLst/>
            </a:prstGeom>
            <a:solidFill>
              <a:srgbClr val="ff1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452"/>
            <p:cNvSpPr/>
            <p:nvPr/>
          </p:nvSpPr>
          <p:spPr>
            <a:xfrm>
              <a:off x="1969920" y="2336760"/>
              <a:ext cx="359640" cy="1425600"/>
            </a:xfrm>
            <a:prstGeom prst="rect">
              <a:avLst/>
            </a:prstGeom>
            <a:solidFill>
              <a:srgbClr val="ff1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452"/>
            <p:cNvSpPr/>
            <p:nvPr/>
          </p:nvSpPr>
          <p:spPr>
            <a:xfrm>
              <a:off x="2679480" y="2575080"/>
              <a:ext cx="360360" cy="1187280"/>
            </a:xfrm>
            <a:prstGeom prst="rect">
              <a:avLst/>
            </a:prstGeom>
            <a:solidFill>
              <a:srgbClr val="ff1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452"/>
            <p:cNvSpPr/>
            <p:nvPr/>
          </p:nvSpPr>
          <p:spPr>
            <a:xfrm>
              <a:off x="3387600" y="3271320"/>
              <a:ext cx="360360" cy="490680"/>
            </a:xfrm>
            <a:prstGeom prst="rect">
              <a:avLst/>
            </a:prstGeom>
            <a:solidFill>
              <a:srgbClr val="ff1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Text Box 11"/>
          <p:cNvSpPr/>
          <p:nvPr/>
        </p:nvSpPr>
        <p:spPr>
          <a:xfrm>
            <a:off x="4893480" y="743040"/>
            <a:ext cx="3452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每格代表（        ）辆车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什么情况下用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格代表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车比较合适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2"/>
          <p:cNvSpPr/>
          <p:nvPr/>
        </p:nvSpPr>
        <p:spPr>
          <a:xfrm>
            <a:off x="1783440" y="4057560"/>
            <a:ext cx="47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如果统计结果是下面这样，每格代表几合适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1260360" y="4648320"/>
          <a:ext cx="6838920" cy="1006200"/>
        </p:xfrm>
        <a:graphic>
          <a:graphicData uri="http://schemas.openxmlformats.org/drawingml/2006/table">
            <a:tbl>
              <a:tblPr/>
              <a:tblGrid>
                <a:gridCol w="1222200"/>
                <a:gridCol w="1441800"/>
                <a:gridCol w="1511280"/>
                <a:gridCol w="1368360"/>
                <a:gridCol w="1295280"/>
              </a:tblGrid>
              <a:tr h="50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机动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轿  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面包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客  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货  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黑体"/>
                        </a:rPr>
                        <a:t>辆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6" name="TextBox 3"/>
          <p:cNvSpPr/>
          <p:nvPr/>
        </p:nvSpPr>
        <p:spPr>
          <a:xfrm>
            <a:off x="6937200" y="752400"/>
            <a:ext cx="50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3"/>
          <p:cNvSpPr/>
          <p:nvPr/>
        </p:nvSpPr>
        <p:spPr>
          <a:xfrm>
            <a:off x="5357880" y="242892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表示的数据比较大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3"/>
          <p:cNvSpPr/>
          <p:nvPr/>
        </p:nvSpPr>
        <p:spPr>
          <a:xfrm>
            <a:off x="1857240" y="5857920"/>
            <a:ext cx="4883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每格代表</a:t>
            </a:r>
            <a:r>
              <a:rPr b="1" lang="en-US" sz="25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辆合适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80"/>
          <p:cNvGrpSpPr/>
          <p:nvPr/>
        </p:nvGrpSpPr>
        <p:grpSpPr>
          <a:xfrm>
            <a:off x="585000" y="2143080"/>
            <a:ext cx="4917240" cy="3651840"/>
            <a:chOff x="585000" y="2143080"/>
            <a:chExt cx="4917240" cy="3651840"/>
          </a:xfrm>
        </p:grpSpPr>
        <p:pic>
          <p:nvPicPr>
            <p:cNvPr id="1040" name="Picture 77" descr="111"/>
            <p:cNvPicPr/>
            <p:nvPr/>
          </p:nvPicPr>
          <p:blipFill>
            <a:blip r:embed="rId1"/>
            <a:stretch/>
          </p:blipFill>
          <p:spPr>
            <a:xfrm>
              <a:off x="657360" y="2365200"/>
              <a:ext cx="4254480" cy="32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Rectangle 78"/>
            <p:cNvSpPr/>
            <p:nvPr/>
          </p:nvSpPr>
          <p:spPr>
            <a:xfrm>
              <a:off x="585000" y="2143080"/>
              <a:ext cx="563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1c1c1c"/>
                  </a:solidFill>
                  <a:latin typeface="Arial"/>
                  <a:ea typeface="宋体"/>
                </a:rPr>
                <a:t>销售量</a:t>
              </a:r>
              <a:r>
                <a:rPr b="0" lang="en-US" sz="1100" spc="-1" strike="noStrike">
                  <a:solidFill>
                    <a:srgbClr val="1c1c1c"/>
                  </a:solidFill>
                  <a:latin typeface="Arial"/>
                </a:rPr>
                <a:t>∕</a:t>
              </a:r>
              <a:r>
                <a:rPr b="0" lang="zh-CN" sz="11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9"/>
            <p:cNvSpPr/>
            <p:nvPr/>
          </p:nvSpPr>
          <p:spPr>
            <a:xfrm>
              <a:off x="884160" y="5533560"/>
              <a:ext cx="461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</a:t>
              </a:r>
              <a:r>
                <a:rPr b="0" lang="zh-CN" sz="11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星期</a:t>
              </a:r>
              <a:r>
                <a:rPr b="0" lang="zh-CN" sz="1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 　星期二 　星期三 </a:t>
              </a:r>
              <a:r>
                <a:rPr b="0" lang="zh-CN" sz="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星期四 </a:t>
              </a:r>
              <a:r>
                <a:rPr b="0" lang="zh-CN" sz="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星期五 星期六 </a:t>
              </a:r>
              <a:r>
                <a:rPr b="0" lang="zh-CN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星期日  　星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9"/>
          <p:cNvGrpSpPr/>
          <p:nvPr/>
        </p:nvGrpSpPr>
        <p:grpSpPr>
          <a:xfrm>
            <a:off x="1130400" y="2921040"/>
            <a:ext cx="3273480" cy="2625840"/>
            <a:chOff x="1130400" y="2921040"/>
            <a:chExt cx="3273480" cy="2625840"/>
          </a:xfrm>
        </p:grpSpPr>
        <p:sp>
          <p:nvSpPr>
            <p:cNvPr id="1044" name="矩形 71"/>
            <p:cNvSpPr/>
            <p:nvPr/>
          </p:nvSpPr>
          <p:spPr>
            <a:xfrm>
              <a:off x="1130400" y="4788360"/>
              <a:ext cx="250560" cy="7585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矩形 76"/>
            <p:cNvSpPr/>
            <p:nvPr/>
          </p:nvSpPr>
          <p:spPr>
            <a:xfrm>
              <a:off x="1633320" y="5044320"/>
              <a:ext cx="250560" cy="502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78"/>
            <p:cNvSpPr/>
            <p:nvPr/>
          </p:nvSpPr>
          <p:spPr>
            <a:xfrm>
              <a:off x="2136600" y="4502880"/>
              <a:ext cx="252000" cy="1044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84"/>
            <p:cNvSpPr/>
            <p:nvPr/>
          </p:nvSpPr>
          <p:spPr>
            <a:xfrm>
              <a:off x="2639880" y="4248720"/>
              <a:ext cx="252720" cy="12978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86"/>
            <p:cNvSpPr/>
            <p:nvPr/>
          </p:nvSpPr>
          <p:spPr>
            <a:xfrm>
              <a:off x="3143520" y="3982320"/>
              <a:ext cx="252000" cy="156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88"/>
            <p:cNvSpPr/>
            <p:nvPr/>
          </p:nvSpPr>
          <p:spPr>
            <a:xfrm>
              <a:off x="3648240" y="2921040"/>
              <a:ext cx="250560" cy="26258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90"/>
            <p:cNvSpPr/>
            <p:nvPr/>
          </p:nvSpPr>
          <p:spPr>
            <a:xfrm>
              <a:off x="4151160" y="3182400"/>
              <a:ext cx="252720" cy="2364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Rectangle 30"/>
          <p:cNvSpPr/>
          <p:nvPr/>
        </p:nvSpPr>
        <p:spPr>
          <a:xfrm>
            <a:off x="1752480" y="716040"/>
            <a:ext cx="51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佳美电器商店电视机一周销售情况统计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949320" y="1104840"/>
          <a:ext cx="6719760" cy="743040"/>
        </p:xfrm>
        <a:graphic>
          <a:graphicData uri="http://schemas.openxmlformats.org/drawingml/2006/table">
            <a:tbl>
              <a:tblPr/>
              <a:tblGrid>
                <a:gridCol w="1728720"/>
                <a:gridCol w="671760"/>
                <a:gridCol w="718920"/>
                <a:gridCol w="720720"/>
                <a:gridCol w="719280"/>
                <a:gridCol w="720720"/>
                <a:gridCol w="720720"/>
                <a:gridCol w="718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星    期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销售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黑体"/>
                        </a:rPr>
                        <a:t>∕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3" name="Text Box 47"/>
          <p:cNvSpPr/>
          <p:nvPr/>
        </p:nvSpPr>
        <p:spPr>
          <a:xfrm>
            <a:off x="5475240" y="2668680"/>
            <a:ext cx="1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48"/>
          <p:cNvSpPr/>
          <p:nvPr/>
        </p:nvSpPr>
        <p:spPr>
          <a:xfrm>
            <a:off x="5347440" y="1998720"/>
            <a:ext cx="27954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这一周哪天销售量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多？哪天最少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你还能发现什么？你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提出什么建议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3"/>
          <p:cNvSpPr/>
          <p:nvPr/>
        </p:nvSpPr>
        <p:spPr>
          <a:xfrm>
            <a:off x="5214960" y="285588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这一周星期六销售量最多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星期二销售量最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3"/>
          <p:cNvSpPr/>
          <p:nvPr/>
        </p:nvSpPr>
        <p:spPr>
          <a:xfrm>
            <a:off x="5214960" y="4713120"/>
            <a:ext cx="500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从星期二到星期六销售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一直上升；商店可以搞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些促销活动，以提高自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的销售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8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3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8" name="Rectangle 64"/>
          <p:cNvSpPr/>
          <p:nvPr/>
        </p:nvSpPr>
        <p:spPr>
          <a:xfrm>
            <a:off x="171360" y="220680"/>
            <a:ext cx="2973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7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0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32"/>
          <p:cNvSpPr/>
          <p:nvPr/>
        </p:nvSpPr>
        <p:spPr>
          <a:xfrm>
            <a:off x="353880" y="114444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根据数据的特点可以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表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表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还可以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表示更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10:13Z</dcterms:created>
  <dc:creator/>
  <dc:description/>
  <dc:language>en-US</dc:language>
  <cp:lastModifiedBy>万润仪器贸易公司</cp:lastModifiedBy>
  <dcterms:modified xsi:type="dcterms:W3CDTF">2020-08-21T09:01:01Z</dcterms:modified>
  <cp:revision>2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